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1B1-E64F-466A-ADAA-F8A7BF1A8D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8F38-D3D8-42C7-B7CD-C6A608C479B7}" type="slidenum">
              <a:rPr b="0" lang="de-DE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C8C-E565-4421-BEED-1DC674F80D5D}" type="slidenum">
              <a:rPr b="0" lang="de-DE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e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MTA-Studie zeigt, dass bei bis zu 69% der ADHS-Kinder eine oder mehrere komorbide 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 vorli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 den 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figsten Komorbid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n 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len: Affektive 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, Verhaltens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, oppositionelles Trotzverhalten, Tic-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 und Lern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 besteht die Gefahr, dass die Komorbid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n eher erkannt und deshalb pri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 behande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anderen Quellen wer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nliche Zahlen genannt wie in der MTA-Studie (z.B.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fner, Lehmkuhl, Monatsschrift Kinderheilkunde 2002;150:157-163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50% mit Oppositioneller 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 des Sozialverhalten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30-50% mit 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 des Sozialverhaltens (ohne oppositionelle Verhaltens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10-40% mit affektiven, v.a. depressiven 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20-25% mit Angst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bis 30% mit Tic-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ungen oder Tourette-Synd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3D9-413C-45B2-95B8-2950C794066A}" type="slidenum">
              <a:rPr b="0" lang="de-DE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122-A4BD-4FF7-B179-3F6AD181C0F8}" type="slidenum">
              <a:rPr b="0" lang="de-DE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59A-F88C-4B49-B132-FBDED54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B65-D8F7-4540-B69A-C462A54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806-3DB6-4B7B-9AE1-C0F4544B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204-91F7-4C19-AB46-72E8877B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6958-A196-49D9-9766-482FAEAAE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D5281-6437-4E35-B3B8-35622B232F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34325-24F3-472F-830B-5778BBCEA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63761-A9B7-4F48-9FF1-EF2AC6C42E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6CF34-6287-4346-9285-03FB02147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FE341-76CF-4FCD-9A08-F2652DBF5A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55441-DCBA-4E8F-BD6C-8EA04ECC0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839-6C4C-41F6-A1FD-F90BC19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0C09-218F-466A-AF8B-EA1657D7F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330E-BCF3-4CE5-9158-58603338C5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4F04-D749-46C2-8503-F4599FCB2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C335B-8DF3-4E7C-BCDA-9D0D8E9F1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E3559-F7EC-4CAB-8D18-15A6FD940C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CB30-E84F-425B-BDA7-FC321BE9D5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4748-E756-47D0-922C-DC33BF3439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BE4BE-55CC-4EF6-A320-ADA7C7D48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EFCC-0657-4F70-B675-8CCE06B8D5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901C2-1459-4D92-9030-99987AF63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56E-2B93-41D7-B121-A27E7AD1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13891-A46A-42DB-BB6A-0589E66175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A2C1-FD9D-4253-9FF1-3A2105B7C8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5D1BE-97F9-4533-A35A-035747D2E2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9396-4284-40D2-8A37-C8ED13156F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10D23-AFB1-420F-A549-DF3767D47C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416CB-BB3B-4BDF-B1F9-7F06D11B76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9C29A-941E-4AC2-90B5-AC8E9480F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D1B-0525-4909-B3E7-7C16B94D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5B2-D438-4BAE-A7D3-1ECB8D0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71200" y="677880"/>
            <a:ext cx="81630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0F1-92C8-4577-AFD9-0715774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6F7-6857-466E-9EFA-CF92907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8AB-42C6-4BDA-8311-EB3A6B3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299-EFD6-4E17-80EB-17F5920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c1c1c"/>
                  </a:solidFill>
                  <a:latin typeface="Verdana"/>
                </a:endParaRPr>
              </a:p>
            </p:txBody>
          </p:sp>
        </p:grpSp>
        <p:sp>
          <p:nvSpPr>
            <p:cNvPr id="62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2D8-513F-4AB5-9A69-B57A2FA30265}" type="slidenum">
              <a:rPr b="0" lang="de-DE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2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3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4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2453-CDDE-46B8-BA58-F3779AA37DC6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5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6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7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7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5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7ED-6E12-4A1A-8155-F225E2A1B427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4920" y="6297480"/>
            <a:ext cx="232560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400" y="1587600"/>
            <a:ext cx="7678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c1c1c"/>
                </a:solidFill>
                <a:latin typeface="Tahoma"/>
              </a:rPr>
              <a:t>VIA-Elterntraini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500280" y="2860560"/>
            <a:ext cx="495792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Inhal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ruppenregel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Überblick über das VIA-Elterntraini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-1904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ch möchte unsere Situation besser  verstehen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– A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 Unicode MS"/>
              </a:rPr>
              <a:t>ufmerksamkeitsdefizit-/ Hyperaktivitätsstörung und aggressives Verhalten: Einführung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E11F-70A9-4C7C-ACF7-0AA01DD4B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Unaufmerksamkei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13880" y="1904760"/>
            <a:ext cx="8309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Betroffene Kinder …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werden häufig von äußeren Reizen abgelenk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sind unaufmerksam gegenüber Details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hören oft scheinbar nicht zu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verlieren häufig wichtige Gegenstände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sind oft vergesslich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können Arbeiten schlecht organisier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erfüllen oft Schularbeiten oder Pflichten am Arbeitsplatz nich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können die Aufmerksamkeit bei Aufgaben nicht aufrecht erhalt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vermeiden Aufgaben, die ein längeres Durchhaltevermögen  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111111"/>
                </a:solidFill>
                <a:latin typeface="Tahoma"/>
              </a:rPr>
              <a:t>erforder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1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3BB7-A81F-4B66-94D0-50D3A9A5E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Überaktivitä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etroffene Kinder …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nd unruhig und zappelig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sind unnötig laut beim Spiel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sind ständig in Bewegung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aben große Schwierigkeiten, ruhig sitzen zu bleiben/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verlassen unerlaubt den Platz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4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5CDE-832E-40C7-A4D4-4372E2A534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Impulsivitä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etroffene Kinder …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ntworten vorschnell / reden viel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können nicht abwart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unterbrechen und stören andere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FF1-F821-43E6-9BA3-788EE90A8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Weitere Kriterien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Die Merkmale …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treten in unterschiedlichen Situationen auf                                         (z. B. in der Schule, zu Hause, bei anderen etc.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werden bereits seit mindestens sechs Monaten gezeig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sind bereits vor dem 6. Lebensjahr aufgetret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11111"/>
                </a:solidFill>
                <a:latin typeface="Tahoma"/>
              </a:rPr>
              <a:t>sind im Vergleich zu Gleichaltrigen überdurchschnittlich ausgepräg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0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502-D44A-4241-9BC8-F6E69F3E2C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Ursachen von ADH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ABD-8F00-4877-9AB6-27C2064890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85800" y="1981080"/>
            <a:ext cx="7715160" cy="3909960"/>
            <a:chOff x="685800" y="1981080"/>
            <a:chExt cx="7715160" cy="3909960"/>
          </a:xfrm>
        </p:grpSpPr>
        <p:sp>
          <p:nvSpPr>
            <p:cNvPr id="364" name="Rectangle 4"/>
            <p:cNvSpPr/>
            <p:nvPr/>
          </p:nvSpPr>
          <p:spPr>
            <a:xfrm>
              <a:off x="728640" y="1981080"/>
              <a:ext cx="7643880" cy="785880"/>
            </a:xfrm>
            <a:prstGeom prst="rect">
              <a:avLst/>
            </a:prstGeom>
            <a:solidFill>
              <a:srgbClr val="ffd9a1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ADHS ist eine Verhaltensstörung mit einer hohen genetischen Komponente: 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Ki</a:t>
              </a:r>
              <a:r>
                <a:rPr b="0" lang="de-DE" sz="1600" spc="-1" strike="noStrike">
                  <a:solidFill>
                    <a:srgbClr val="111111"/>
                  </a:solidFill>
                  <a:latin typeface="Tahoma"/>
                  <a:ea typeface="Times New Roman"/>
                </a:rPr>
                <a:t>nder betroffener Eltern in 50-60 % der Fälle selbst betroff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pic>
          <p:nvPicPr>
            <p:cNvPr id="365" name="Picture 11" descr=""/>
            <p:cNvPicPr/>
            <p:nvPr/>
          </p:nvPicPr>
          <p:blipFill>
            <a:blip r:embed="rId1"/>
            <a:stretch/>
          </p:blipFill>
          <p:spPr>
            <a:xfrm>
              <a:off x="3651120" y="3352680"/>
              <a:ext cx="187020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4"/>
            <p:cNvSpPr/>
            <p:nvPr/>
          </p:nvSpPr>
          <p:spPr>
            <a:xfrm>
              <a:off x="685800" y="3429000"/>
              <a:ext cx="2685960" cy="78588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Strukturelle Auffälligkeiten 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bestimmter Gehirnregion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367" name="Rectangle 4"/>
            <p:cNvSpPr/>
            <p:nvPr/>
          </p:nvSpPr>
          <p:spPr>
            <a:xfrm>
              <a:off x="685800" y="5105520"/>
              <a:ext cx="2685960" cy="78552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Abweichungen in der elektrischen Hirnaktivität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368" name="Rectangle 4"/>
            <p:cNvSpPr/>
            <p:nvPr/>
          </p:nvSpPr>
          <p:spPr>
            <a:xfrm>
              <a:off x="5715000" y="3429000"/>
              <a:ext cx="2685960" cy="78588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Fehlregulation zentraler Botenstoffe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5715000" y="5105520"/>
              <a:ext cx="2685960" cy="78552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Verminderte Durchblutung und Glucosestoffwechsel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cxnSp>
          <p:nvCxnSpPr>
            <p:cNvPr id="370" name=""/>
            <p:cNvCxnSpPr>
              <a:stCxn id="364" idx="2"/>
              <a:endCxn id="366" idx="0"/>
            </p:cNvCxnSpPr>
            <p:nvPr/>
          </p:nvCxnSpPr>
          <p:spPr>
            <a:xfrm flipH="1">
              <a:off x="2028240" y="2766600"/>
              <a:ext cx="2523240" cy="6627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64" idx="2"/>
              <a:endCxn id="368" idx="0"/>
            </p:cNvCxnSpPr>
            <p:nvPr/>
          </p:nvCxnSpPr>
          <p:spPr>
            <a:xfrm>
              <a:off x="4551120" y="2766600"/>
              <a:ext cx="2507400" cy="6627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66" idx="2"/>
              <a:endCxn id="367" idx="0"/>
            </p:cNvCxnSpPr>
            <p:nvPr/>
          </p:nvCxnSpPr>
          <p:spPr>
            <a:xfrm>
              <a:off x="2028600" y="4214880"/>
              <a:ext cx="1080" cy="8913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7" idx="3"/>
              <a:endCxn id="369" idx="1"/>
            </p:cNvCxnSpPr>
            <p:nvPr/>
          </p:nvCxnSpPr>
          <p:spPr>
            <a:xfrm>
              <a:off x="3371400" y="5498640"/>
              <a:ext cx="2343960" cy="108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68" idx="2"/>
              <a:endCxn id="369" idx="0"/>
            </p:cNvCxnSpPr>
            <p:nvPr/>
          </p:nvCxnSpPr>
          <p:spPr>
            <a:xfrm>
              <a:off x="7057800" y="4214880"/>
              <a:ext cx="1080" cy="8913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sp>
          <p:nvSpPr>
            <p:cNvPr id="375" name=""/>
            <p:cNvSpPr/>
            <p:nvPr/>
          </p:nvSpPr>
          <p:spPr>
            <a:xfrm>
              <a:off x="3581280" y="480060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c1c1c"/>
                  </a:solidFill>
                  <a:latin typeface="Verdana"/>
                </a:rPr>
                <a:t>Die Geschichte vom Zappelphilipp. </a:t>
              </a:r>
              <a:endParaRPr b="0" lang="en-US" sz="8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c1c1c"/>
                  </a:solidFill>
                  <a:latin typeface="Verdana"/>
                </a:rPr>
                <a:t>In: Struwwelpeter</a:t>
              </a:r>
              <a:endParaRPr b="0" lang="en-US" sz="8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c1c1c"/>
                  </a:solidFill>
                  <a:latin typeface="Verdana"/>
                </a:rPr>
                <a:t>Hoffmann, H. (1992)</a:t>
              </a:r>
              <a:endParaRPr b="0" lang="en-US" sz="8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Wann treten die Symptome auf?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Die Kinder zeigen Aufmerksamkeitsprobleme, wenn ..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leichzeitig viele Aufforderungen zu bewältigen sind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ohe Anforderungen an die Geschwindigkeit, Genauigkeit und/oder Dauer besteh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andlungsimpulse gestoppt werden müss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ine Anpassung der Arbeitsgeschwindigkeit notwendig is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Leistungseinbußen entstehen vor allem in eher langweiligen und monotonen Situationen, die weniger Anregung biet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Externe Hilfestellung, Kontrolle und Motivation verringern die Aufmerksamkeitsprobleme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D6B-96DA-49E0-A2CB-5396C3D326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Die Bedeutung der Motivation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12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Kinder mit ADHS zeigen oft negative Reaktionen gegenüber einer verzögerten Belohnung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291960" indent="-291960">
              <a:spcBef>
                <a:spcPts val="12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Kinder mit ADHS reagieren mit starken Leistungseinbußen auf Belohnungsaufschub und nichtkontinuierlicher Verstärkung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291960" indent="-291960">
              <a:spcBef>
                <a:spcPts val="12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nreize und Lob sind für ADHS-Kinder von entscheidender Bedeutung für Leistungsverhalten!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291960" indent="-29196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A12-9567-469B-ADD4-BCBA927139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c1c1c"/>
                </a:solidFill>
                <a:latin typeface="Tahoma"/>
              </a:rPr>
              <a:t>Die Bedeutung von Botenstoffen: </a:t>
            </a:r>
            <a:br>
              <a:rPr sz="2800"/>
            </a:br>
            <a:r>
              <a:rPr b="1" lang="de-DE" sz="2800" spc="-1" strike="noStrike">
                <a:solidFill>
                  <a:srgbClr val="1c1c1c"/>
                </a:solidFill>
                <a:latin typeface="Tahoma"/>
              </a:rPr>
              <a:t>Wie wirken Stimulanzien?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Bei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DHS besteht eine Fehlregulation des Dopamin-Stoffwechsels: </a:t>
            </a:r>
            <a:r>
              <a:rPr b="0" lang="de-DE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ie Wiederaufnahme von Dopamin durch die präsynaptische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Membran ist erhöht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und die Sensitivität des Dopamin-Rezeptoren auf der 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postsynaptischen Membran erniedrigt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Stimulanzien (Ritalin, Medikinet, Concerta etc.) blockieren die Dopamin-Transporter und hemmen so die Wiederaufnahme. Das Dopamin wirkt länger (die Konzentrationsfähigkeit wird gesteigert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196-9F8B-4D76-8782-CC49CD68E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2071800" y="4591080"/>
            <a:ext cx="4633920" cy="1582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659640" y="5326200"/>
            <a:ext cx="201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1c1c1c"/>
                </a:solidFill>
                <a:latin typeface="Verdana"/>
              </a:rPr>
              <a:t>Abbildung aus: Banaschewski et al. (2004). Neurobiologie der Aufmerksamkeits-defizit-/Hyperaktivitäts-störung (ADHS). Kindheit und Entwicklung. 13 (3). 137-147.</a:t>
            </a:r>
            <a:endParaRPr b="0" lang="en-US" sz="9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Die Komplexität von Aufmerksamkei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C304-CD68-4F0A-ACE3-DFC90F4985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73080" y="1905120"/>
            <a:ext cx="7197840" cy="3504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952560" y="5410080"/>
            <a:ext cx="723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c1c1c"/>
                </a:solidFill>
                <a:latin typeface="Verdana"/>
                <a:ea typeface="Times New Roman"/>
              </a:rPr>
              <a:t>Abbildung aus: Banaschewski et al. (2004). Neurobiologie der Aufmerksamkeitsdefizit/ Hyperaktivitätsstörung (ADHS). Kindheit und Entwicklung. 13 (3). 137-147.</a:t>
            </a:r>
            <a:endParaRPr b="0" lang="en-US" sz="10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Ursachen und Verlauf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2960" y="1904760"/>
            <a:ext cx="3730320" cy="4381560"/>
          </a:xfrm>
          <a:prstGeom prst="rect">
            <a:avLst/>
          </a:prstGeom>
          <a:solidFill>
            <a:srgbClr val="ffd9a1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349"/>
              </a:spcBef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URSACHEN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22200" indent="-32220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Pränatale Risikofaktoren (z. B. Nikotin- und Alkoholkonsum), Schwangerschafts- und Geburtskomplikationen, niedriges Geburtsgewicht, Infektionen etc.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22200" indent="-32220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Ernährung: keine gesicherten Befunde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22200" indent="-32220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Erziehungsfaktoren führen nicht zur Entstehung, sind aber wesentlich für das Ausmaß der Verhaltensprobleme und den Verlauf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43240" y="1904760"/>
            <a:ext cx="3671640" cy="4381560"/>
          </a:xfrm>
          <a:prstGeom prst="rect">
            <a:avLst/>
          </a:prstGeom>
          <a:solidFill>
            <a:srgbClr val="ffb84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VERLAUF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A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</a:rPr>
              <a:t>DHS wächst sich oft nicht aus.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</a:rPr>
              <a:t>Bei rund zwei Dritteln bleiben die Symptome bis ins Erwachsenenalter, wenn auch in veränderter Form, erhalten.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</a:rPr>
              <a:t>Häufig kommen weitere Verhaltensprobleme dazu.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4" name="Foliennummernplatzhalter 2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ECC7-247B-44C1-B8D4-6A452F6F42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3DB7-AFF0-461B-A2A7-7C38AC7575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Vereinbarungen für die Grupp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Organisatorische Verbindlichkeit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Jeder verpflichtet sich zu einer verbindlichen Teilnahme, pünktlichen Wahrnehmung der Termine sowie rechtzeitigen telefonischen oder schriftlichen Absage bei dringender Verhinderung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Schweigepflicht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ersönliche Informationen, Erfahrungen oder Erlebnisse sollten außerhalb der Gruppe nicht bzw. anonymisiert besprochen werd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Respektvoller Umgang miteinander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rundregeln wie: Ausreden lassen,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zuhören, keine Bewertungen oder Schuldzuweisungen, gegenseitige Unterstützung etc. sollten eingehalten werden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DHS im Grundschulalter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auernde motorische Unruh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rhöhte Ablenkbarkei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esteigerte Impulsivitä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ernschwierigkeit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Umschulungen/Klassenwiederhol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ggressives Verhalten (30-50 %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blehnung durch Gleichaltrig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lbstunsicherhei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rhöhtes Unfallrisiko (4-6fach erhöht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7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8AEE-E36F-42C9-8A73-8A0176668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DHS im Jugendalter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Verminderung der motorischen Unruh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Weiterhin Aufmerksamkeitsstör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Impulsivität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Aggressives Verhalt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Dissoziales Verhalten und Delinquenz (30 %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Alkohol- und Drogenmissbrauch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Emotionale Stör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0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7C7-CC9E-40E4-A2DD-6D5B0F7F2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DHS im Erwachsenenalter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Motorische Unruhe (30-60 %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Ausgeprägte Symptomatik bei ca. 30 %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Geringere Schulbildu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Häufiger Arbeitsplatzwechs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Partnerschaftsproblem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Alkohol- und Drogenmissbrauch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</a:rPr>
              <a:t>Dissoziale Persönlichkeitsstörung bei ca. 15 %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3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E93-19DC-4C1E-B28E-AF9921237A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201-2663-42C1-A1EB-B6829B11A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ufmerksamkeitsdefizit-/ Hyperaktivitätsstöru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Tahoma"/>
              </a:rPr>
              <a:t>Häufige Begleitproblem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Störungen des Sozialverhaltens (SSV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Umschriebene Entwicklungsstörungen (UES) (z. B. Lese-Rechtschreib-Störung, Teilleistungsschwächen, schulische Leistungsdefizite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Tic-Störungen (einschließlich Tourette-Störung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Negatives Selbstkonzept oder depressive Stör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ngststörungen (insbesondere Leistungsängste)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Beeinträchtigte Beziehungen zu Familienmitgliedern, zu Erziehern/ Lehrern und zu Gleichaltri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ie häufigsten Begleitprobleme sind SSV und UES. Emotionale Störungen werden oft überseh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6172-52AB-491E-B0A9-D78DC2A107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08" name="Oval 4"/>
          <p:cNvSpPr/>
          <p:nvPr/>
        </p:nvSpPr>
        <p:spPr>
          <a:xfrm>
            <a:off x="2362320" y="1295280"/>
            <a:ext cx="4060800" cy="406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09" name="Oval 6"/>
          <p:cNvSpPr/>
          <p:nvPr/>
        </p:nvSpPr>
        <p:spPr>
          <a:xfrm>
            <a:off x="2370240" y="1295280"/>
            <a:ext cx="4059000" cy="409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3894120" y="3535200"/>
            <a:ext cx="757080" cy="784440"/>
          </a:xfrm>
          <a:prstGeom prst="ellipse">
            <a:avLst/>
          </a:prstGeom>
          <a:solidFill>
            <a:srgbClr val="963e00"/>
          </a:solidFill>
          <a:ln w="38160">
            <a:solidFill>
              <a:srgbClr val="e6d0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891720"/>
            <a:ext cx="8163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c1c1c"/>
                </a:solidFill>
                <a:latin typeface="Tahoma"/>
              </a:rPr>
              <a:t>ADHS und Komorbidität </a:t>
            </a:r>
            <a:r>
              <a:rPr b="1" lang="de-DE" sz="1400" spc="-1" strike="noStrike">
                <a:solidFill>
                  <a:srgbClr val="1c1c1c"/>
                </a:solidFill>
                <a:latin typeface="Tahoma"/>
              </a:rPr>
              <a:t>modifiziert nach: </a:t>
            </a:r>
            <a:br>
              <a:rPr sz="1400"/>
            </a:b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The MTA Cooperative Group, Archives of General Psychiatry 1999; 56:1073-1086</a:t>
            </a:r>
            <a:endParaRPr b="1" lang="en-US" sz="1400" spc="-1" strike="noStrike">
              <a:solidFill>
                <a:srgbClr val="1c1c1c"/>
              </a:solidFill>
              <a:latin typeface="Tahoma"/>
            </a:endParaRPr>
          </a:p>
        </p:txBody>
      </p:sp>
      <p:grpSp>
        <p:nvGrpSpPr>
          <p:cNvPr id="412" name="Group 40"/>
          <p:cNvGrpSpPr/>
          <p:nvPr/>
        </p:nvGrpSpPr>
        <p:grpSpPr>
          <a:xfrm>
            <a:off x="826560" y="2057400"/>
            <a:ext cx="7626600" cy="4065480"/>
            <a:chOff x="826560" y="2057400"/>
            <a:chExt cx="7626600" cy="4065480"/>
          </a:xfrm>
        </p:grpSpPr>
        <p:sp>
          <p:nvSpPr>
            <p:cNvPr id="413" name="Rectangle 5"/>
            <p:cNvSpPr/>
            <p:nvPr/>
          </p:nvSpPr>
          <p:spPr>
            <a:xfrm>
              <a:off x="1784880" y="2286000"/>
              <a:ext cx="765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ADHS 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allein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6081840" y="2362320"/>
              <a:ext cx="2062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Oppositionelles Trotzverhalten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5905800" y="5410080"/>
              <a:ext cx="2547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Angststörungen</a:t>
              </a:r>
              <a:br>
                <a:rPr sz="2000"/>
              </a:b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affektive Störungen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826560" y="5181480"/>
              <a:ext cx="2096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Störungen des 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Sozialverhaltens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7" name="Rectangle 21"/>
            <p:cNvSpPr/>
            <p:nvPr/>
          </p:nvSpPr>
          <p:spPr>
            <a:xfrm>
              <a:off x="1128600" y="3429000"/>
              <a:ext cx="1143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Tic-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Störung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8" name="Rectangle 28"/>
            <p:cNvSpPr/>
            <p:nvPr/>
          </p:nvSpPr>
          <p:spPr>
            <a:xfrm>
              <a:off x="6462720" y="3733920"/>
              <a:ext cx="1851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Tahoma"/>
                </a:rPr>
                <a:t>Teilleistungs-störungen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19" name="Oval 8"/>
            <p:cNvSpPr/>
            <p:nvPr/>
          </p:nvSpPr>
          <p:spPr>
            <a:xfrm>
              <a:off x="2341440" y="2057400"/>
              <a:ext cx="4060800" cy="40654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3719520" y="2362320"/>
              <a:ext cx="2484360" cy="25066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4691160" y="274320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40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2" name="Oval 14"/>
            <p:cNvSpPr/>
            <p:nvPr/>
          </p:nvSpPr>
          <p:spPr>
            <a:xfrm>
              <a:off x="3602160" y="4002120"/>
              <a:ext cx="2000160" cy="2031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3" name="Rectangle 15"/>
            <p:cNvSpPr/>
            <p:nvPr/>
          </p:nvSpPr>
          <p:spPr>
            <a:xfrm>
              <a:off x="4310280" y="525780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38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4" name="Oval 18"/>
            <p:cNvSpPr/>
            <p:nvPr/>
          </p:nvSpPr>
          <p:spPr>
            <a:xfrm>
              <a:off x="2500200" y="3809880"/>
              <a:ext cx="1463760" cy="14986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5" name="Rectangle 19"/>
            <p:cNvSpPr/>
            <p:nvPr/>
          </p:nvSpPr>
          <p:spPr>
            <a:xfrm>
              <a:off x="2862360" y="441972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14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6" name="Oval 22"/>
            <p:cNvSpPr/>
            <p:nvPr/>
          </p:nvSpPr>
          <p:spPr>
            <a:xfrm>
              <a:off x="3287880" y="3429000"/>
              <a:ext cx="1117440" cy="1135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7" name="Rectangle 23"/>
            <p:cNvSpPr/>
            <p:nvPr/>
          </p:nvSpPr>
          <p:spPr>
            <a:xfrm>
              <a:off x="3548160" y="380988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11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8" name="Rectangle 26"/>
            <p:cNvSpPr/>
            <p:nvPr/>
          </p:nvSpPr>
          <p:spPr>
            <a:xfrm>
              <a:off x="3087000" y="281952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31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29" name="Oval 27"/>
            <p:cNvSpPr/>
            <p:nvPr/>
          </p:nvSpPr>
          <p:spPr>
            <a:xfrm>
              <a:off x="4309920" y="3240000"/>
              <a:ext cx="1881360" cy="191160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30" name="Rectangle 29"/>
            <p:cNvSpPr/>
            <p:nvPr/>
          </p:nvSpPr>
          <p:spPr>
            <a:xfrm>
              <a:off x="4996080" y="4038480"/>
              <a:ext cx="70272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30%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cxnSp>
          <p:nvCxnSpPr>
            <p:cNvPr id="431" name="AutoShape 34"/>
            <p:cNvCxnSpPr>
              <a:stCxn id="414" idx="1"/>
              <a:endCxn id="421" idx="3"/>
            </p:cNvCxnSpPr>
            <p:nvPr/>
          </p:nvCxnSpPr>
          <p:spPr>
            <a:xfrm flipH="1">
              <a:off x="5450760" y="2670120"/>
              <a:ext cx="631080" cy="27216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32" name="AutoShape 35"/>
            <p:cNvCxnSpPr>
              <a:stCxn id="413" idx="3"/>
              <a:endCxn id="428" idx="1"/>
            </p:cNvCxnSpPr>
            <p:nvPr/>
          </p:nvCxnSpPr>
          <p:spPr>
            <a:xfrm>
              <a:off x="2570040" y="2593800"/>
              <a:ext cx="464400" cy="42480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33" name="AutoShape 36"/>
            <p:cNvCxnSpPr>
              <a:stCxn id="417" idx="3"/>
              <a:endCxn id="427" idx="1"/>
            </p:cNvCxnSpPr>
            <p:nvPr/>
          </p:nvCxnSpPr>
          <p:spPr>
            <a:xfrm>
              <a:off x="2271240" y="3733560"/>
              <a:ext cx="1220040" cy="27540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34" name="AutoShape 37"/>
            <p:cNvCxnSpPr>
              <a:stCxn id="416" idx="0"/>
              <a:endCxn id="425" idx="1"/>
            </p:cNvCxnSpPr>
            <p:nvPr/>
          </p:nvCxnSpPr>
          <p:spPr>
            <a:xfrm flipV="1">
              <a:off x="1884960" y="4617360"/>
              <a:ext cx="921240" cy="56412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35" name="AutoShape 38"/>
            <p:cNvCxnSpPr>
              <a:stCxn id="430" idx="3"/>
              <a:endCxn id="418" idx="1"/>
            </p:cNvCxnSpPr>
            <p:nvPr/>
          </p:nvCxnSpPr>
          <p:spPr>
            <a:xfrm flipV="1">
              <a:off x="5756400" y="4038120"/>
              <a:ext cx="707040" cy="19944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36" name="AutoShape 39"/>
            <p:cNvCxnSpPr>
              <a:stCxn id="423" idx="3"/>
              <a:endCxn id="415" idx="1"/>
            </p:cNvCxnSpPr>
            <p:nvPr/>
          </p:nvCxnSpPr>
          <p:spPr>
            <a:xfrm>
              <a:off x="5070600" y="5456160"/>
              <a:ext cx="830880" cy="262800"/>
            </a:xfrm>
            <a:prstGeom prst="straightConnector1">
              <a:avLst/>
            </a:prstGeom>
            <a:ln w="28440">
              <a:solidFill>
                <a:srgbClr val="4d4d4d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4E1-E9DB-4104-828F-2A5C224E05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ufmerksamkeitsdefizit-/ Hyperaktivitätsstöru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Behandlungsmöglichkeiten (multimodal) 1/2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ufklärung und Beratung (Psychoedukation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Elterntraining zur Verminderung der Symptomatik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Interventionen im Kindergarten / in der Schule zur Verminderung der Symptomatik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Kognitive Therapie des Kindes/Jugendlichen (ab Schulalter) zur Verminderung von impulsiven und unorganisierten Aufgabenlösungen (Selbstinstruktionstraining) oder zur Anleitung des Kindes/Jugendlichen zur Modifikation des Problemverhaltens (Selbstmanagement)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Pharmakotherapie zur Verminderung hyperkinetischer Symptom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5B29-5F43-49FB-B63B-CDFDF5B6744C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ufmerksamkeitsdefizit-/ Hyperaktivitätsstörung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Behandlungsmöglichkeiten (multimodal) 2/2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Zur Behandlung der komorbiden Störungen können ergänzend Interventionen durchgeführt werden, vor allem: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482760" indent="-29232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Soziales Kompetenztraining bei sozialen Kompetenzdefiziten und aggressiven Verhaltensstörung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482760" indent="-29232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Einzel- und/oder Gruppenpsychotherapie zur Verminderung von geringem Selbstwertgefühl und/oder Problemen mit Gleichaltrig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482760" indent="-29232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Übungsbehandlungen zur Verminderung von umschriebenen Entwicklungsstörungen (Teilleistungsschwächen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törungen des Sozialverhaltens (SSV)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714760" y="1904760"/>
            <a:ext cx="6308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Hauptsymptome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Oppositionelles Verhalten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Deutliches Maß an Ungehorsam, Streiten oder Tyrannisiere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Ungewöhnlich häufige oder schwere Wutausbrüche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Grausamkeit gegenüber anderen Menschen oder Tiere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Erhebliche Destruktivität gegenüber Eigentum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Zündel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Stehle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Häufiges Lüge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Schule schwänzen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Weglaufen von zu Hause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45" name="Foliennummernplatzhalter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F450-D28B-47AA-A380-8E987DF2606F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pic>
        <p:nvPicPr>
          <p:cNvPr id="446" name="Picture 1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1700280" cy="1895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838080" y="3886200"/>
            <a:ext cx="18288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Die Geschichte vom 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Bösen Friederich in Struwwelpeter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Hoffmann, H. (1992)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6C62-C730-45E3-B4DF-64984BF6B8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törungen des Sozialverhalten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Häufige Begleitproblem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ufmerksamkeitsdefizit-/Hyperaktivitätssyndrom (ADHS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pressive Stör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ngststör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blehnung durch ander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lkohol-, Drogen- oder Medikamentenmissbrauch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Ursachen aggressiven Verhalten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52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75C8-20AE-4DE5-A579-45B0A0B0DA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42960" y="1928880"/>
            <a:ext cx="8110440" cy="4190760"/>
            <a:chOff x="642960" y="1928880"/>
            <a:chExt cx="8110440" cy="4190760"/>
          </a:xfrm>
        </p:grpSpPr>
        <p:sp>
          <p:nvSpPr>
            <p:cNvPr id="454" name="Rectangle 4"/>
            <p:cNvSpPr/>
            <p:nvPr/>
          </p:nvSpPr>
          <p:spPr>
            <a:xfrm>
              <a:off x="642960" y="1928880"/>
              <a:ext cx="8066160" cy="823680"/>
            </a:xfrm>
            <a:prstGeom prst="rect">
              <a:avLst/>
            </a:prstGeom>
            <a:solidFill>
              <a:srgbClr val="ffd9a1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Biologische und Umweltfaktoren sind an der Entstehung aggressiven Verhaltens beteiligt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55" name="Rectangle 4"/>
            <p:cNvSpPr/>
            <p:nvPr/>
          </p:nvSpPr>
          <p:spPr>
            <a:xfrm>
              <a:off x="642960" y="3200400"/>
              <a:ext cx="2833560" cy="82404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Ungünstige Vorbilder, ungünstige Peergruppe, Medi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56" name="Rectangle 4"/>
            <p:cNvSpPr/>
            <p:nvPr/>
          </p:nvSpPr>
          <p:spPr>
            <a:xfrm>
              <a:off x="642960" y="4248000"/>
              <a:ext cx="2833560" cy="82404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Soziale Probleme: Belastung in der Familie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5919840" y="3200400"/>
              <a:ext cx="2833560" cy="82404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Fehlregulation zentraler Botenstoffe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58" name="Rectangle 4"/>
            <p:cNvSpPr/>
            <p:nvPr/>
          </p:nvSpPr>
          <p:spPr>
            <a:xfrm>
              <a:off x="5919840" y="4248000"/>
              <a:ext cx="2833560" cy="82404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Verminderte Aktivität bestimmter Gehirnareale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pic>
          <p:nvPicPr>
            <p:cNvPr id="459" name="Picture 12" descr=""/>
            <p:cNvPicPr/>
            <p:nvPr/>
          </p:nvPicPr>
          <p:blipFill>
            <a:blip r:embed="rId1"/>
            <a:stretch/>
          </p:blipFill>
          <p:spPr>
            <a:xfrm>
              <a:off x="3733920" y="3500280"/>
              <a:ext cx="179388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Rectangle 4"/>
            <p:cNvSpPr/>
            <p:nvPr/>
          </p:nvSpPr>
          <p:spPr>
            <a:xfrm>
              <a:off x="642960" y="5295960"/>
              <a:ext cx="2833560" cy="82368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Erziehungsfaktoren: z. B. mangelnde Aufsicht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>
              <a:off x="5919840" y="5295960"/>
              <a:ext cx="2833560" cy="823680"/>
            </a:xfrm>
            <a:prstGeom prst="rect">
              <a:avLst/>
            </a:prstGeom>
            <a:solidFill>
              <a:srgbClr val="fff0d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Ungünstiges Temperament, fehlendes Einfühlungsvermög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cxnSp>
          <p:nvCxnSpPr>
            <p:cNvPr id="462" name=""/>
            <p:cNvCxnSpPr>
              <a:stCxn id="454" idx="2"/>
              <a:endCxn id="455" idx="0"/>
            </p:cNvCxnSpPr>
            <p:nvPr/>
          </p:nvCxnSpPr>
          <p:spPr>
            <a:xfrm flipH="1">
              <a:off x="2059920" y="2752560"/>
              <a:ext cx="2616840" cy="4485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  <p:cxnSp>
          <p:nvCxnSpPr>
            <p:cNvPr id="463" name=""/>
            <p:cNvCxnSpPr>
              <a:stCxn id="454" idx="2"/>
              <a:endCxn id="457" idx="0"/>
            </p:cNvCxnSpPr>
            <p:nvPr/>
          </p:nvCxnSpPr>
          <p:spPr>
            <a:xfrm>
              <a:off x="4676400" y="2752560"/>
              <a:ext cx="2661480" cy="448560"/>
            </a:xfrm>
            <a:prstGeom prst="straightConnector1">
              <a:avLst/>
            </a:prstGeom>
            <a:ln w="28440">
              <a:solidFill>
                <a:srgbClr val="1c1c1c"/>
              </a:solidFill>
              <a:miter/>
              <a:tailEnd len="med" type="triangle" w="med"/>
            </a:ln>
          </p:spPr>
        </p:cxnSp>
      </p:grpSp>
      <p:sp>
        <p:nvSpPr>
          <p:cNvPr id="464" name=""/>
          <p:cNvSpPr/>
          <p:nvPr/>
        </p:nvSpPr>
        <p:spPr>
          <a:xfrm>
            <a:off x="3657600" y="5486400"/>
            <a:ext cx="18288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Die Geschichte vom 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Bösen Friederich in Struwwelpeter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Hoffmann, H. (1992)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4FA8-D129-4202-8DA6-8F1F024A0DFE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Vereinbarungen für die Grupp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Eigenverantwortung und Mitarbeit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eder trägt mit seiner Mitarbeit zum Gelingen bei, jedoch sollte jeder selbst bestimmen, wie aktiv oder passiv er teilnehmen will. Jeder passt auf sich auf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Gemeinsame Erarbeitung von Lösung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Jeder ist gleichermaßen zur Ideensammlung und zum Erfahrungsaustausch eingelad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Üben ist wichtiger als red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raktische Umsetzung führt zu positiver Veränderung. Jeder kann sich zum Trainieren und zur Durchführung der Hausaufgaben motiviert fühl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Individuelle Themen müssen im Einzelgespräch geklärt werden!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Entwicklungsverlauf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66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634-6C71-4EAB-A211-E4D3F78E0739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71680" y="2643120"/>
            <a:ext cx="7991280" cy="1600200"/>
            <a:chOff x="571680" y="2643120"/>
            <a:chExt cx="7991280" cy="1600200"/>
          </a:xfrm>
        </p:grpSpPr>
        <p:sp>
          <p:nvSpPr>
            <p:cNvPr id="468" name="AutoShape 3"/>
            <p:cNvSpPr/>
            <p:nvPr/>
          </p:nvSpPr>
          <p:spPr>
            <a:xfrm>
              <a:off x="571680" y="2643120"/>
              <a:ext cx="7924680" cy="762120"/>
            </a:xfrm>
            <a:prstGeom prst="rightArrow">
              <a:avLst>
                <a:gd name="adj1" fmla="val 53333"/>
                <a:gd name="adj2" fmla="val 91225"/>
              </a:avLst>
            </a:prstGeom>
            <a:solidFill>
              <a:srgbClr val="9900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Kindheit</a:t>
              </a: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               Jugendalter        </a:t>
              </a: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Erwachsenenalter</a:t>
              </a:r>
              <a:endParaRPr b="0" lang="en-US" sz="2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69" name="AutoShape 4"/>
            <p:cNvSpPr/>
            <p:nvPr/>
          </p:nvSpPr>
          <p:spPr>
            <a:xfrm>
              <a:off x="571680" y="3633840"/>
              <a:ext cx="1295280" cy="609480"/>
            </a:xfrm>
            <a:prstGeom prst="flowChartProcess">
              <a:avLst/>
            </a:prstGeom>
            <a:solidFill>
              <a:srgbClr val="ffd9a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Risiko-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1c1c1c"/>
                  </a:solidFill>
                  <a:latin typeface="Tahoma"/>
                </a:rPr>
                <a:t>faktor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2133720" y="3633840"/>
              <a:ext cx="1733400" cy="609480"/>
            </a:xfrm>
            <a:prstGeom prst="flowChartProcess">
              <a:avLst/>
            </a:prstGeom>
            <a:solidFill>
              <a:srgbClr val="ffd9a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Tahoma"/>
                </a:rPr>
                <a:t>oppositionelles 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Tahoma"/>
                </a:rPr>
                <a:t>Trotzverhalten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4216320" y="3633840"/>
              <a:ext cx="2009880" cy="609480"/>
            </a:xfrm>
            <a:prstGeom prst="flowChartProcess">
              <a:avLst/>
            </a:prstGeom>
            <a:solidFill>
              <a:srgbClr val="ffd9a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Tahoma"/>
                </a:rPr>
                <a:t>Störung des 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Tahoma"/>
                </a:rPr>
                <a:t>Sozialverhaltens</a:t>
              </a:r>
              <a:endParaRPr b="0" lang="en-US" sz="16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2" name="AutoShape 7"/>
            <p:cNvSpPr/>
            <p:nvPr/>
          </p:nvSpPr>
          <p:spPr>
            <a:xfrm>
              <a:off x="6575400" y="3633840"/>
              <a:ext cx="1987560" cy="609480"/>
            </a:xfrm>
            <a:prstGeom prst="flowChartProcess">
              <a:avLst/>
            </a:prstGeom>
            <a:solidFill>
              <a:srgbClr val="ffd9a1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c1c1c"/>
                  </a:solidFill>
                  <a:latin typeface="Tahoma"/>
                </a:rPr>
                <a:t>Dissoziale </a:t>
              </a:r>
              <a:endParaRPr b="0" lang="en-US" sz="1400" spc="-1" strike="noStrike">
                <a:solidFill>
                  <a:srgbClr val="1c1c1c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c1c1c"/>
                  </a:solidFill>
                  <a:latin typeface="Tahoma"/>
                </a:rPr>
                <a:t>Persönlichkeitsstörung</a:t>
              </a:r>
              <a:endParaRPr b="0" lang="en-US" sz="1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3" name="AutoShape 8"/>
            <p:cNvSpPr/>
            <p:nvPr/>
          </p:nvSpPr>
          <p:spPr>
            <a:xfrm>
              <a:off x="3867120" y="3633840"/>
              <a:ext cx="349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Verdana"/>
                </a:rPr>
                <a:t>30</a:t>
              </a:r>
              <a:r>
                <a:rPr b="0" lang="en-US" sz="800" spc="-1" strike="noStrike">
                  <a:solidFill>
                    <a:srgbClr val="eaeaea"/>
                  </a:solidFill>
                  <a:latin typeface="Verdana"/>
                </a:rPr>
                <a:t>%</a:t>
              </a:r>
              <a:endParaRPr b="0" lang="en-US" sz="8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4" name="AutoShape 9"/>
            <p:cNvSpPr/>
            <p:nvPr/>
          </p:nvSpPr>
          <p:spPr>
            <a:xfrm>
              <a:off x="6226200" y="3633840"/>
              <a:ext cx="349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eaeaea"/>
                  </a:solidFill>
                  <a:latin typeface="Verdana"/>
                </a:rPr>
                <a:t>40</a:t>
              </a:r>
              <a:r>
                <a:rPr b="0" lang="en-US" sz="800" spc="-1" strike="noStrike">
                  <a:solidFill>
                    <a:srgbClr val="eaeaea"/>
                  </a:solidFill>
                  <a:latin typeface="Verdana"/>
                </a:rPr>
                <a:t>%</a:t>
              </a:r>
              <a:endParaRPr b="0" lang="en-US" sz="8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1866960" y="3633840"/>
              <a:ext cx="2667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6" name="Text Box 11"/>
            <p:cNvSpPr/>
            <p:nvPr/>
          </p:nvSpPr>
          <p:spPr>
            <a:xfrm>
              <a:off x="3838680" y="363384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Verdana"/>
                </a:rPr>
                <a:t>*</a:t>
              </a:r>
              <a:endParaRPr b="0" lang="en-US" sz="1000" spc="-1" strike="noStrike">
                <a:solidFill>
                  <a:srgbClr val="1c1c1c"/>
                </a:solidFill>
                <a:latin typeface="Verdana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6200640" y="36338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c1c1c"/>
                  </a:solidFill>
                  <a:latin typeface="Verdana"/>
                </a:rPr>
                <a:t>**</a:t>
              </a:r>
              <a:endParaRPr b="0" lang="en-US" sz="1000" spc="-1" strike="noStrike">
                <a:solidFill>
                  <a:srgbClr val="1c1c1c"/>
                </a:solidFill>
                <a:latin typeface="Verdana"/>
              </a:endParaRPr>
            </a:p>
          </p:txBody>
        </p:sp>
      </p:grpSp>
      <p:sp>
        <p:nvSpPr>
          <p:cNvPr id="478" name="Rechteck 26"/>
          <p:cNvSpPr/>
          <p:nvPr/>
        </p:nvSpPr>
        <p:spPr>
          <a:xfrm>
            <a:off x="857160" y="5445000"/>
            <a:ext cx="744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c1c1c"/>
                </a:solidFill>
                <a:latin typeface="Tahoma"/>
              </a:rPr>
              <a:t>*   </a:t>
            </a:r>
            <a:r>
              <a:rPr b="0" lang="en-GB" sz="1200" spc="-1" strike="noStrike">
                <a:solidFill>
                  <a:srgbClr val="1c1c1c"/>
                </a:solidFill>
                <a:latin typeface="Tahoma"/>
                <a:ea typeface="Times New Roman"/>
              </a:rPr>
              <a:t>Loeber et al. (2000). Oppositional and deviant disorder: a review of the past 10 years, part I. Journal of the American Academy of Child and Adolescent Psychiatry. 39(12). 1468-84.</a:t>
            </a:r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c1c1c"/>
                </a:solidFill>
                <a:latin typeface="Tahoma"/>
              </a:rPr>
              <a:t>** Zoccolillo </a:t>
            </a:r>
            <a:r>
              <a:rPr b="0" lang="en-GB" sz="1200" spc="-1" strike="noStrike">
                <a:solidFill>
                  <a:srgbClr val="1c1c1c"/>
                </a:solidFill>
                <a:latin typeface="Tahoma"/>
                <a:ea typeface="Times New Roman"/>
              </a:rPr>
              <a:t>(1992). Co-occurence of conduct disorder and its adult outcomes with depressive and anxiety disorders: A review. Journal of the American Academy of Child and Adolescent Psychiatry. 31(3). 547-556.</a:t>
            </a:r>
            <a:endParaRPr b="0" lang="en-US" sz="12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AD7-F39A-4EA6-B135-69D30C50A5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törungen des Sozialverhalten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Behandlungsmöglichkeiten (multimodal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Jugendhilfemaßnahmen 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Psychiatrische Behandlung, einschließlich Pharmakotherapie (ambulant oder stationär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Elterntraining zur Verminderung der Symptomatik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Interventionen beim Kind: Problemlösetraining (einzeln oder in der Gruppe), Trennung von ungünstigen Peer-Gruppen, Aufbau von adäquaten Peer-Beziehungen, Training sozialer Kompetenz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Wahl einer angemessenen Schulform, Kooperation mit der Schul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1E1-AC8C-4C9E-8EFD-13688D46CBB0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0810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Was können Elterntrainings leisten?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ufklärung über die Symptomatik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Verhaltensbeeinflussung durch vorbeugende Maßnahmen, Verminderung von Erziehungsfaktoren, die das Verhalten beeinflussen/aufrecht erhalten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nleitung zu einer vermehrten elterlichen Kontrolle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nleitung für einen effektiven Umgang mit oppositionellem und aggressivem Verhalte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bbau negativer Beziehungsmuster und Aufbau positiver Beziehungsmuster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D32-A268-4DA7-8192-FBF0C4AB1C3F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Hausaufgabe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2600" y="2143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Überlegen Sie bis zur nächsten Stunde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elches Problemverhalten soll sich ändern?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rmulieren Sie dies so konkret wie möglich auf Ihrem Arbeitsblat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90C-0D6D-4F1D-9155-24410C4966C7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2600" y="2143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Alles Gute für Sie und Ihr Kind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EEC-7314-44EB-B4C7-71D4496AB5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Inhalte des Training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9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Ich möchte unsere Situation besser verstehen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 Aufmerksamkeitsdefizit-/Hyperaktivitätsstörungen und  aggressives Verhalten: Einführu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Wie wird unsere Beziehung besser?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finde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ch schön an dir: Den Fokus auf das Positive lenken und durch Lob verstärken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Meine, deine, unsere Zeit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Etablierung wertvoller Zeiten als Grundlage für eine positive Beziehu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C61-8E0E-4075-BBE8-1390C3200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Inhalte des Training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Komm, lass uns Lösungswege finden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ie Festlegung verbindlicher Regeln als Grundlage für eine verlässliche Beziehung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Ich möchte, dass du tust, was ich dir sage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Aufforderungen angemessen formulieren und in ihrer Umsetzung begleit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hast du dir verdient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Verstärkersysteme zum Aufbau erwünschter Verhaltensweis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2AD-4B01-4FFE-B3D3-7AA25F19FC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110484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Inhalte des Trainings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nn musst du aus Erfahrung lernen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Logische Konsequenzen bei Regelverstoß, Opposition und anderem Fehlverhalt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u machst mich wütend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Umgang mit Wutanfällen und Aggressio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„</a:t>
            </a:r>
            <a:r>
              <a:rPr b="1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Das nehme ich mit</a:t>
            </a:r>
            <a:r>
              <a:rPr b="0" lang="de-DE" sz="1800" spc="-1" strike="noStrike">
                <a:solidFill>
                  <a:srgbClr val="1c1c1c"/>
                </a:solidFill>
                <a:latin typeface="Tahoma"/>
                <a:ea typeface="Tahoma"/>
              </a:rPr>
              <a:t>“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1c1c1c"/>
                </a:solidFill>
                <a:latin typeface="Tahoma"/>
                <a:ea typeface="Times New Roman"/>
              </a:rPr>
              <a:t>Rückblick auf das VIA-Elterntraining                                               Notfallplan für zukünftige Kris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Was wissen Sie </a:t>
            </a:r>
            <a:r>
              <a:rPr b="1" lang="en-US" sz="2800" spc="-1" strike="noStrike">
                <a:solidFill>
                  <a:srgbClr val="1c1c1c"/>
                </a:solidFill>
                <a:latin typeface="Comic Sans MS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ber </a:t>
            </a:r>
            <a:br>
              <a:rPr sz="2800"/>
            </a:b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ADHS, ADS, HKS, ADHD ...?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  <a:ea typeface="Times New Roman"/>
            </a:endParaRPr>
          </a:p>
        </p:txBody>
      </p:sp>
      <p:sp>
        <p:nvSpPr>
          <p:cNvPr id="340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911-E92F-425F-86AD-86C821A29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  <a:ea typeface="Times New Roman"/>
              </a:rPr>
              <a:t>Und wie würden Sie aggressives Verhalten beschreiben?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05320" y="2860560"/>
            <a:ext cx="49528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  <a:ea typeface="Times New Roman"/>
            </a:endParaRPr>
          </a:p>
        </p:txBody>
      </p:sp>
      <p:sp>
        <p:nvSpPr>
          <p:cNvPr id="343" name="Foliennummernplatzhalter 5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ABBF-BD48-4EA9-9282-22CD5BBE01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1200" y="68580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Aufmerksamkeitsdefizit-/ Hyperaktivitätsstörungen 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äufigkeiten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3-5 % aller Schulkinder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äufiger bei Jung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Ähnliche Häufigkeiten in anderen Kulture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6" name="Foliennummernplatzhalter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2932-F91A-49DE-A260-D6213D15B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1c1c1c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590560" cy="2111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467160" y="5638680"/>
            <a:ext cx="22096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Die Geschichte vom Zappelphilipp. 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In: Struwwelpeter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1c1c"/>
                </a:solidFill>
                <a:latin typeface="Verdana"/>
              </a:rPr>
              <a:t>Hoffmann, H. (1992)</a:t>
            </a:r>
            <a:endParaRPr b="0" lang="en-US" sz="800" spc="-1" strike="noStrike">
              <a:solidFill>
                <a:srgbClr val="1c1c1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3:06:04Z</dcterms:created>
  <dc:creator>Grasmann</dc:creator>
  <dc:description/>
  <dc:language>en-US</dc:language>
  <cp:lastModifiedBy>SZOR01</cp:lastModifiedBy>
  <dcterms:modified xsi:type="dcterms:W3CDTF">2008-10-16T12:38:21Z</dcterms:modified>
  <cp:revision>158</cp:revision>
  <dc:subject/>
  <dc:title>Vereinbarungen für die Gruppe</dc:title>
</cp:coreProperties>
</file>